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wmf" ContentType="image/x-wmf"/>
  <Override PartName="/ppt/media/image20.jpeg" ContentType="image/jpeg"/>
  <Override PartName="/ppt/media/image19.png" ContentType="image/png"/>
  <Override PartName="/ppt/media/image21.wmf" ContentType="image/x-wmf"/>
  <Override PartName="/ppt/media/image6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media/image26.jpeg" ContentType="image/jpeg"/>
  <Override PartName="/ppt/media/image18.wmf" ContentType="image/x-wmf"/>
  <Override PartName="/ppt/media/image32.jpeg" ContentType="image/jpeg"/>
  <Override PartName="/ppt/media/image5.jpeg" ContentType="image/jpeg"/>
  <Override PartName="/ppt/media/image30.wmf" ContentType="image/x-wmf"/>
  <Override PartName="/ppt/media/image33.jpeg" ContentType="image/jpeg"/>
  <Override PartName="/ppt/media/image27.jpeg" ContentType="image/jpeg"/>
  <Override PartName="/ppt/media/image28.wmf" ContentType="image/x-wmf"/>
  <Override PartName="/ppt/media/image31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7.png" ContentType="image/png"/>
  <Override PartName="/ppt/media/image38.wmf" ContentType="image/x-wmf"/>
  <Override PartName="/ppt/media/image39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7.gif" ContentType="image/gif"/>
  <Override PartName="/ppt/media/image29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F2CD-4E98-4E36-8188-543768A8646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8E21-7389-4805-88D5-FEB0AFBF758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4363-2A29-4178-B448-EE8514B100A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B51A-9932-4CBD-A3C8-2BC8B9A160B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C526-D746-4DDC-A3CF-9BA17C74348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0A15-9597-428A-A403-3F6CC994E92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7FE7-D05B-40C5-8629-85998173B40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70C1-89E1-4FC4-9D4A-E02D92DAD8A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E457-60E5-4164-9590-24274815D15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4711-7BE6-4F99-AFA9-879B3789DB8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E412-DD8A-4DA3-A3ED-62743BB1F8F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EB4E-5BB0-47B6-9EEB-D08AA9B7E87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591A-7FEE-4050-B30D-BAC77FBB948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0E35-F03D-4B16-90BA-06F9A925820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0176-9CA3-4A62-95F6-07C12A98774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147F-97C8-4ACC-8390-A704E0F0DBF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73F6-5DBD-4D88-BD44-08355ECEC77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91B1-D254-40A1-8E94-36361E6899F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53FC-CF09-4CF2-A2D1-D041D6790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6764-50CE-45DB-965D-89A5CEC5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8E1A-04A8-4F75-B0CE-E4292AE9B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34EC-0DAC-4C07-92E9-49FB67423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A2F3E-0479-4F2C-96DA-FB5EB387D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E40DE-C63E-4CB9-8031-57D55BA8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24B71-AE2B-461C-9A36-B1B0FA4A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63838-FF78-4687-9EEF-677BC856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87EB2-521B-49CB-927E-A8331AF3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7D958-19AB-49F6-BD88-921CA2E3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3D0FD-73C9-44DE-A917-1578D0D0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D38A-60E2-450A-B547-4B95C133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BE85D-87A9-41D2-9147-F0A38649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9AAA4-C326-4164-BA85-095EBD4D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79F35-6317-41A6-959E-691ED199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5BEA9-81D5-4739-B6B5-F2117B554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54AE1-06AE-4ADD-8D5E-B1AA6D81B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63365-2E88-4260-99A5-981FB26F7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8F5F4-5744-464C-BAAB-B475AB8B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DE79D-81DE-465B-BB68-4782BC25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4B6D5-FF08-43F0-8EC3-6E92DB6F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4DBD6-68B5-4841-9AF5-6496EF10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AC59-811C-4DB3-A45E-4D1EFF64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8856B-F4B3-4BB4-A91E-B1966EC1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68006-5837-439A-8FB6-FDB41900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576F3-F61B-4324-ACAE-1080D9D2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5DF70-6421-40BE-B8D8-698323D8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24300-6FA4-4F90-953C-8EA49CB9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97C35-1921-4613-8265-F134648FC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E3575-ED66-45D2-9A6F-1F895CFC1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2ADF2-B37D-4659-A162-617967432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52319-F7DB-46B4-8F3F-FB4C0346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B1E2E-F586-48FA-9A41-EF5EEEAB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BE49-F379-4101-A9EB-9E46C7BC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919E8-BD84-46B0-BBE6-A5B5420F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A4163-4D06-4046-B172-77DB43F0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9657D-5A69-4BDB-8F13-BEB766A5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E30F3-A690-4306-BE94-6DC396EA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F035F-370D-4DE5-BF86-39F25F9A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257B9-04D6-409E-BDE0-9A92BA63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B52D0-3B6E-45DA-9F85-DC5D9243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422C4-5BFA-4A4F-8528-6DCA9ABD4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BD9C5-92C0-4E63-A2A2-11DDBE6AA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06957-1117-4145-A2C9-870385261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F17D-B706-4E07-80DC-37FDA229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62488-9103-4D21-81D8-29DEE235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EF85A-C1DF-4278-9AC2-89F8026C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0C496-A427-429D-8949-68A15A74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B10CB-B68A-4C9F-B0B2-93AAE1EE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6B972-5B5D-4970-B9BE-5736D825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18F93-7F5A-4459-99AF-77362E68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B6B72-F393-4988-B5F9-0C8F809C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17A88-E682-4BCC-9E33-4B8241F8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ECF98-90AD-4350-BB5A-1F791493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A26D8-E892-490D-B754-4911735A2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605A-ED7C-4169-B7A2-37DC0A69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A4F9C-27BB-42DA-AD90-88E8C4AD7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051AD-364E-44B1-9485-E58D3A630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F6BF9-8BE9-4053-AA41-FE3447C5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3DCD7-F4FE-4327-AFF6-14BBD632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4968A-6930-44F1-B54F-B830A81F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2DCBA-1634-4386-90A5-76040452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53EDC-B47A-4137-8E9A-0BBE9029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AA02F-63B3-4A7F-B3DF-AA69B3E5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69B69-28D6-473D-874D-7D0450B2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CC2CB-5938-48A5-BEDE-617A6D1B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E2CD-B93E-4FC4-A1E8-EF3846AF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F8036-72F5-4019-9C53-CB1DD19F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90705-E9BF-4B85-A3EE-97FFF9579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C9F38-E8FC-47B3-88C7-F0E9F292E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45840-BC43-4C7D-884C-99835581C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7F9AA-D27B-4979-9072-9774C00D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C8F3D-3119-434C-8F31-558AC6C0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42743-771D-4EE2-8171-5FBCDEE9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72C22-D2D6-45D0-BBB2-7A89C88E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C14E3-753E-487C-8A47-F5332253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62ECA-9DDA-4186-BF61-329207B5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3EED-3455-48CA-B9F2-CD4321EB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EBAD6-6D3C-4FB8-BE71-AFE8C33D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62F42-520A-468E-A998-577B7DFE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E4B4D-0402-459A-BF96-FA09B1A2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F6EDC-3843-45E4-B48E-579A9652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3431B-EB56-41BD-93DC-0A3DD5C96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80F2F-89DE-42D0-B21C-8FD9505F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A50DC-03A1-47AA-A5AA-1755B558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B0BDA-3644-4E1A-A621-D3BA2EBC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3399F-4596-4B62-8562-326761B1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67202-58C7-4993-B353-F7A445DA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82F1-6260-4578-968D-DC958D52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3B2BB-0D36-496E-B0ED-16192595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22123-1F7B-469A-A414-79A6B6CE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FC77A-7A95-4A65-A950-0167F383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7A72E-761E-4DCB-8D70-DAE19A2E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2CB6D-5933-4A1A-A200-9F72F606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2BBE4-36E4-4E66-BE90-964EB3BE9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E3227-C9C8-4720-B0DB-245183E55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1028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Line 1029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B8EB-FA05-4440-A9B1-91090D90EBA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B13E-0D5F-40BC-97EB-304D13CB6F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50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2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3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4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5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6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7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8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9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0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1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2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63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0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grpSp>
          <p:nvGrpSpPr>
            <p:cNvPr id="1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1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1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1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1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1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1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1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1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1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1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1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1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1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1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1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1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1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1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1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1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1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1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1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1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EAE9-7B23-4C5F-BF35-A87123BFCB1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8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pic>
          <p:nvPicPr>
            <p:cNvPr id="18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6B2A-0282-4B99-A98D-9C32B2B8CE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DC53-46D4-49A2-A9DB-29B7F27ED44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267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268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69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70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71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72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73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74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75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76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77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78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79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80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281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FBA6-195B-4D3A-8D63-FE20F919D1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24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25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26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27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28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29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30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31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32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33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34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35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grpSp>
          <p:nvGrpSpPr>
            <p:cNvPr id="336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37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38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39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40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41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42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43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44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45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46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47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48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49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50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51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52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53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54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55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56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57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58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59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60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61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134C-7B74-42F2-A616-81A8FC0188F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83E9-B527-4809-A491-25BE5466DC6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441972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Managing Time</a:t>
            </a: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 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453" name="Picture 9" descr=""/>
          <p:cNvPicPr/>
          <p:nvPr/>
        </p:nvPicPr>
        <p:blipFill>
          <a:blip r:embed="rId1"/>
          <a:stretch/>
        </p:blipFill>
        <p:spPr>
          <a:xfrm>
            <a:off x="7086600" y="304920"/>
            <a:ext cx="1332000" cy="1676160"/>
          </a:xfrm>
          <a:prstGeom prst="rect">
            <a:avLst/>
          </a:prstGeom>
          <a:ln w="0">
            <a:noFill/>
          </a:ln>
        </p:spPr>
      </p:pic>
      <p:sp>
        <p:nvSpPr>
          <p:cNvPr id="454" name="Text Box 10"/>
          <p:cNvSpPr/>
          <p:nvPr/>
        </p:nvSpPr>
        <p:spPr>
          <a:xfrm>
            <a:off x="2351160" y="1185840"/>
            <a:ext cx="376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72c2"/>
                </a:solidFill>
                <a:latin typeface="Arial"/>
              </a:rPr>
              <a:t>There are 168 hours in every week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972c2"/>
                </a:solidFill>
                <a:latin typeface="Arial"/>
              </a:rPr>
              <a:t>How are you spending yours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2133720" y="1905120"/>
            <a:ext cx="3292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eeping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ing to the Gym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ting ready for clas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on campu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pping for grocerie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ing for family member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ing out with friend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ltivating a relationship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 new peop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ing to office hour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nteering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ing to clas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ying for test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ing library research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6" name="Text Box 13"/>
          <p:cNvSpPr/>
          <p:nvPr/>
        </p:nvSpPr>
        <p:spPr>
          <a:xfrm>
            <a:off x="5338440" y="1905120"/>
            <a:ext cx="3059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ing a nap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rcising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ching up!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ting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ting around campu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ing an instrumen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ing to unwind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ending events on campu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ing a friend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ing emai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ing your essay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ting coffe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tting with friend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ing in touch with family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7" name="WordArt 15"/>
          <p:cNvSpPr txBox="1"/>
          <p:nvPr/>
        </p:nvSpPr>
        <p:spPr>
          <a:xfrm>
            <a:off x="1752480" y="5715000"/>
            <a:ext cx="7543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8c0039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How does everything get done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8c0039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15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800"/>
                            </p:stCondLst>
                            <p:childTnLst>
                              <p:par>
                                <p:cTn id="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1"/>
                            </p:stCondLst>
                            <p:childTnLst>
                              <p:par>
                                <p:cTn id="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50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2"/>
                            </p:stCondLst>
                            <p:childTnLst>
                              <p:par>
                                <p:cTn id="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503"/>
                            </p:stCondLst>
                            <p:childTnLst>
                              <p:par>
                                <p:cTn id="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504"/>
                            </p:stCondLst>
                            <p:childTnLst>
                              <p:par>
                                <p:cTn id="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7005"/>
                            </p:stCondLst>
                            <p:childTnLst>
                              <p:par>
                                <p:cTn id="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506"/>
                            </p:stCondLst>
                            <p:childTnLst>
                              <p:par>
                                <p:cTn id="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507"/>
                            </p:stCondLst>
                            <p:childTnLst>
                              <p:par>
                                <p:cTn id="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508"/>
                            </p:stCondLst>
                            <p:childTnLst>
                              <p:par>
                                <p:cTn id="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2009"/>
                            </p:stCondLst>
                            <p:childTnLst>
                              <p:par>
                                <p:cTn id="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2009"/>
                            </p:stCondLst>
                            <p:childTnLst>
                              <p:par>
                                <p:cTn id="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3010"/>
                            </p:stCondLst>
                            <p:childTnLst>
                              <p:par>
                                <p:cTn id="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4011"/>
                            </p:stCondLst>
                            <p:childTnLst>
                              <p:par>
                                <p:cTn id="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"/>
                                        <p:tgtEl>
                                          <p:spTgt spid="4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400" fill="hold"/>
                                        <p:tgtEl>
                                          <p:spTgt spid="4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00" fill="hold"/>
                                        <p:tgtEl>
                                          <p:spTgt spid="4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4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4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4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5000" fill="hold"/>
                                        <p:tgtEl>
                                          <p:spTgt spid="4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5000" fill="hold"/>
                                        <p:tgtEl>
                                          <p:spTgt spid="4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b1142"/>
                </a:solidFill>
                <a:latin typeface="Arial"/>
              </a:rPr>
              <a:t>Derek’s Schedul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47" descr="P4"/>
          <p:cNvPicPr/>
          <p:nvPr/>
        </p:nvPicPr>
        <p:blipFill>
          <a:blip r:embed="rId1"/>
          <a:srcRect l="0" t="16005" r="1725" b="0"/>
          <a:stretch/>
        </p:blipFill>
        <p:spPr>
          <a:xfrm>
            <a:off x="685800" y="2286000"/>
            <a:ext cx="2728800" cy="3581280"/>
          </a:xfrm>
          <a:prstGeom prst="rect">
            <a:avLst/>
          </a:prstGeom>
          <a:ln w="0">
            <a:noFill/>
          </a:ln>
        </p:spPr>
      </p:pic>
      <p:sp>
        <p:nvSpPr>
          <p:cNvPr id="504" name="AutoShape 48"/>
          <p:cNvSpPr/>
          <p:nvPr/>
        </p:nvSpPr>
        <p:spPr>
          <a:xfrm>
            <a:off x="3962520" y="2286000"/>
            <a:ext cx="4952880" cy="1981080"/>
          </a:xfrm>
          <a:prstGeom prst="wedgeRoundRectCallout">
            <a:avLst>
              <a:gd name="adj1" fmla="val -74550"/>
              <a:gd name="adj2" fmla="val -18587"/>
              <a:gd name="adj3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Unicode MS"/>
              </a:rPr>
              <a:t>With everything that I’m juggling, I need to use some major time management skills!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 spd="med" advTm="15000">
    <p:strips dir="rd"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0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 Week in Derek’s Semester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0" y="1905120"/>
          <a:ext cx="9144000" cy="2819160"/>
        </p:xfrm>
        <a:graphic>
          <a:graphicData uri="http://schemas.openxmlformats.org/drawingml/2006/table">
            <a:tbl>
              <a:tblPr/>
              <a:tblGrid>
                <a:gridCol w="1333440"/>
                <a:gridCol w="1278000"/>
                <a:gridCol w="1305000"/>
                <a:gridCol w="1311120"/>
                <a:gridCol w="1305000"/>
                <a:gridCol w="1305000"/>
                <a:gridCol w="130644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d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9775d"/>
                      </a:solidFill>
                    </a:lnL>
                    <a:lnR w="5760">
                      <a:solidFill>
                        <a:srgbClr val="f9775d"/>
                      </a:solidFill>
                    </a:lnR>
                    <a:lnT w="5760">
                      <a:solidFill>
                        <a:srgbClr val="f9775d"/>
                      </a:solidFill>
                    </a:lnT>
                    <a:lnB w="5760">
                      <a:solidFill>
                        <a:srgbClr val="f9775d"/>
                      </a:solidFill>
                    </a:lnB>
                    <a:solidFill>
                      <a:srgbClr val="fb79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esd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9775d"/>
                      </a:solidFill>
                    </a:lnL>
                    <a:lnR w="5760">
                      <a:solidFill>
                        <a:srgbClr val="f9775d"/>
                      </a:solidFill>
                    </a:lnR>
                    <a:lnT w="5760">
                      <a:solidFill>
                        <a:srgbClr val="f9775d"/>
                      </a:solidFill>
                    </a:lnT>
                    <a:lnB w="5760">
                      <a:solidFill>
                        <a:srgbClr val="f9775d"/>
                      </a:solidFill>
                    </a:lnB>
                    <a:solidFill>
                      <a:srgbClr val="fb79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dnesd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9775d"/>
                      </a:solidFill>
                    </a:lnL>
                    <a:lnR w="5760">
                      <a:solidFill>
                        <a:srgbClr val="f9775d"/>
                      </a:solidFill>
                    </a:lnR>
                    <a:lnT w="5760">
                      <a:solidFill>
                        <a:srgbClr val="f9775d"/>
                      </a:solidFill>
                    </a:lnT>
                    <a:lnB w="5760">
                      <a:solidFill>
                        <a:srgbClr val="f9775d"/>
                      </a:solidFill>
                    </a:lnB>
                    <a:solidFill>
                      <a:srgbClr val="fb79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ursd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9775d"/>
                      </a:solidFill>
                    </a:lnL>
                    <a:lnR w="5760">
                      <a:solidFill>
                        <a:srgbClr val="f9775d"/>
                      </a:solidFill>
                    </a:lnR>
                    <a:lnT w="5760">
                      <a:solidFill>
                        <a:srgbClr val="f9775d"/>
                      </a:solidFill>
                    </a:lnT>
                    <a:lnB w="5760">
                      <a:solidFill>
                        <a:srgbClr val="f9775d"/>
                      </a:solidFill>
                    </a:lnB>
                    <a:solidFill>
                      <a:srgbClr val="fb79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d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9775d"/>
                      </a:solidFill>
                    </a:lnL>
                    <a:lnR w="5760">
                      <a:solidFill>
                        <a:srgbClr val="f9775d"/>
                      </a:solidFill>
                    </a:lnR>
                    <a:lnT w="5760">
                      <a:solidFill>
                        <a:srgbClr val="f9775d"/>
                      </a:solidFill>
                    </a:lnT>
                    <a:lnB w="5760">
                      <a:solidFill>
                        <a:srgbClr val="f9775d"/>
                      </a:solidFill>
                    </a:lnB>
                    <a:solidFill>
                      <a:srgbClr val="fb79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d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9775d"/>
                      </a:solidFill>
                    </a:lnL>
                    <a:lnR w="5760">
                      <a:solidFill>
                        <a:srgbClr val="f9775d"/>
                      </a:solidFill>
                    </a:lnR>
                    <a:lnT w="5760">
                      <a:solidFill>
                        <a:srgbClr val="f9775d"/>
                      </a:solidFill>
                    </a:lnT>
                    <a:lnB w="5760">
                      <a:solidFill>
                        <a:srgbClr val="f9775d"/>
                      </a:solidFill>
                    </a:lnB>
                    <a:solidFill>
                      <a:srgbClr val="fb79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d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9775d"/>
                      </a:solidFill>
                    </a:lnL>
                    <a:lnR w="5760">
                      <a:solidFill>
                        <a:srgbClr val="f9775d"/>
                      </a:solidFill>
                    </a:lnR>
                    <a:lnT w="5760">
                      <a:solidFill>
                        <a:srgbClr val="f9775d"/>
                      </a:solidFill>
                    </a:lnT>
                    <a:lnB w="5760">
                      <a:solidFill>
                        <a:srgbClr val="f9775d"/>
                      </a:solidFill>
                    </a:lnB>
                    <a:solidFill>
                      <a:srgbClr val="fb795f"/>
                    </a:solidFill>
                  </a:tcPr>
                </a:tc>
              </a:tr>
              <a:tr h="21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db1142"/>
                          </a:solidFill>
                          <a:latin typeface="Arial"/>
                        </a:rPr>
                        <a:t>Work til 5: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lo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7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9775d"/>
                      </a:solidFill>
                    </a:lnL>
                    <a:lnR w="5760">
                      <a:solidFill>
                        <a:srgbClr val="f9775d"/>
                      </a:solidFill>
                    </a:lnR>
                    <a:lnT w="5760">
                      <a:solidFill>
                        <a:srgbClr val="f9775d"/>
                      </a:solidFill>
                    </a:lnT>
                    <a:lnB w="5760">
                      <a:solidFill>
                        <a:srgbClr val="f9775d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db1142"/>
                          </a:solidFill>
                          <a:latin typeface="Arial"/>
                        </a:rPr>
                        <a:t>Work til 5: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inish World Civilization Paper at the Library 6-10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9775d"/>
                      </a:solidFill>
                    </a:lnL>
                    <a:lnR w="5760">
                      <a:solidFill>
                        <a:srgbClr val="f9775d"/>
                      </a:solidFill>
                    </a:lnR>
                    <a:lnT w="5760">
                      <a:solidFill>
                        <a:srgbClr val="f9775d"/>
                      </a:solidFill>
                    </a:lnT>
                    <a:lnB w="5760">
                      <a:solidFill>
                        <a:srgbClr val="f9775d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db1142"/>
                          </a:solidFill>
                          <a:latin typeface="Arial"/>
                        </a:rPr>
                        <a:t>Work til 5: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 Civiliza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9 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Paper D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9775d"/>
                      </a:solidFill>
                    </a:lnL>
                    <a:lnR w="5760">
                      <a:solidFill>
                        <a:srgbClr val="f9775d"/>
                      </a:solidFill>
                    </a:lnR>
                    <a:lnT w="5760">
                      <a:solidFill>
                        <a:srgbClr val="f9775d"/>
                      </a:solidFill>
                    </a:lnT>
                    <a:lnB w="5760">
                      <a:solidFill>
                        <a:srgbClr val="f9775d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db1142"/>
                          </a:solidFill>
                          <a:latin typeface="Arial"/>
                        </a:rPr>
                        <a:t>Work til 5: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logy 5-7 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Lab Due Next Wee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9775d"/>
                      </a:solidFill>
                    </a:lnL>
                    <a:lnR w="5760">
                      <a:solidFill>
                        <a:srgbClr val="f9775d"/>
                      </a:solidFill>
                    </a:lnR>
                    <a:lnT w="5760">
                      <a:solidFill>
                        <a:srgbClr val="f9775d"/>
                      </a:solidFill>
                    </a:lnT>
                    <a:lnB w="5760">
                      <a:solidFill>
                        <a:srgbClr val="f9775d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db1142"/>
                          </a:solidFill>
                          <a:latin typeface="Arial"/>
                        </a:rPr>
                        <a:t>Work til 5: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Mom’s Birthday Party 6:00 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9775d"/>
                      </a:solidFill>
                    </a:lnL>
                    <a:lnR w="5760">
                      <a:solidFill>
                        <a:srgbClr val="f9775d"/>
                      </a:solidFill>
                    </a:lnR>
                    <a:lnT w="5760">
                      <a:solidFill>
                        <a:srgbClr val="f9775d"/>
                      </a:solidFill>
                    </a:lnT>
                    <a:lnB w="5760">
                      <a:solidFill>
                        <a:srgbClr val="f9775d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Bike Rid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8:30 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Choir 10 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Work on Bio Lab Report 12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Pick up Keith at the airport 3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9775d"/>
                      </a:solidFill>
                    </a:lnL>
                    <a:lnR w="5760">
                      <a:solidFill>
                        <a:srgbClr val="f9775d"/>
                      </a:solidFill>
                    </a:lnR>
                    <a:lnT w="5760">
                      <a:solidFill>
                        <a:srgbClr val="f9775d"/>
                      </a:solidFill>
                    </a:lnT>
                    <a:lnB w="5760">
                      <a:solidFill>
                        <a:srgbClr val="f9775d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World Civ Reading 9 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Church 10: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Barbecue at Ronda’s 1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atch up on homewor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7-10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9775d"/>
                      </a:solidFill>
                    </a:lnL>
                    <a:lnR w="5760">
                      <a:solidFill>
                        <a:srgbClr val="f9775d"/>
                      </a:solidFill>
                    </a:lnR>
                    <a:lnT w="5760">
                      <a:solidFill>
                        <a:srgbClr val="f9775d"/>
                      </a:solidFill>
                    </a:lnT>
                    <a:lnB w="5760">
                      <a:solidFill>
                        <a:srgbClr val="f9775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7" name="Text Box 67"/>
          <p:cNvSpPr/>
          <p:nvPr/>
        </p:nvSpPr>
        <p:spPr>
          <a:xfrm>
            <a:off x="455040" y="4724280"/>
            <a:ext cx="6970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effective is Derek’s schedule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es he allow enough time to accomplish what he schedules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 he paying attention to his energy level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es it look like Derek will accomplish everything he plans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well will he be able to accomplish certain tasks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 spd="med" advTm="15000">
    <p:strips dir="ru"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1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" dur="5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0" lang="en-US" sz="3500" spc="-1" strike="noStrike">
                <a:solidFill>
                  <a:srgbClr val="ffffff"/>
                </a:solidFill>
                <a:latin typeface="Arial Unicode MS"/>
              </a:rPr>
              <a:t>Do you have a schedule?</a:t>
            </a:r>
            <a:br>
              <a:rPr sz="3500"/>
            </a:br>
            <a:r>
              <a:rPr b="0" lang="en-US" sz="3500" spc="-1" strike="noStrike">
                <a:solidFill>
                  <a:srgbClr val="ffffff"/>
                </a:solidFill>
                <a:latin typeface="Arial Unicode MS"/>
              </a:rPr>
              <a:t>Organizing Your Day: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 Unicode MS"/>
              </a:rPr>
              <a:t>“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Work smarter, not harder.”- Alan Lak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Set realistic goals, there are only 24 hours in a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Use spare time to review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Study at the same time each day: make it a hab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Divide study time into 50-minute block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Don’t forget to reward yourself when you do something righ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WordArt 4"/>
          <p:cNvSpPr txBox="1"/>
          <p:nvPr/>
        </p:nvSpPr>
        <p:spPr>
          <a:xfrm>
            <a:off x="1371600" y="5867280"/>
            <a:ext cx="6696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ake it one day at a time…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15000">
    <p:circle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0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Unicode MS"/>
              </a:rPr>
              <a:t>Do you use a Daily Planner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Complete a term assignment preview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Use a “week at a glance” organiz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Enter in due dates and social events as soon as you c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343400" y="17524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Review your calendar daily for the current week and upcoming wee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It just takes a moment to review your calendar and it relieves stress to know you are on top of thin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Picture 5" descr="MCj01500240000[1]"/>
          <p:cNvPicPr/>
          <p:nvPr/>
        </p:nvPicPr>
        <p:blipFill>
          <a:blip r:embed="rId1"/>
          <a:stretch/>
        </p:blipFill>
        <p:spPr>
          <a:xfrm>
            <a:off x="5257800" y="4495680"/>
            <a:ext cx="2362320" cy="179388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6" descr="MCj02976250000[1]"/>
          <p:cNvPicPr/>
          <p:nvPr/>
        </p:nvPicPr>
        <p:blipFill>
          <a:blip r:embed="rId2"/>
          <a:stretch/>
        </p:blipFill>
        <p:spPr>
          <a:xfrm>
            <a:off x="838080" y="4267080"/>
            <a:ext cx="1981440" cy="17766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diamond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10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10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10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10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10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10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10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10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Derek’s Scheduled Day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1143000" y="2514600"/>
          <a:ext cx="7010280" cy="2651040"/>
        </p:xfrm>
        <a:graphic>
          <a:graphicData uri="http://schemas.openxmlformats.org/drawingml/2006/table">
            <a:tbl>
              <a:tblPr/>
              <a:tblGrid>
                <a:gridCol w="1676520"/>
                <a:gridCol w="2133360"/>
                <a:gridCol w="3200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am-12p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2pm-1p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un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ead World Civ. Boo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pm-5p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5pm-6p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Head Ho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at Dinn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pm-10p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on World Civ. Pap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8" name="Picture 60" descr="P4"/>
          <p:cNvPicPr/>
          <p:nvPr/>
        </p:nvPicPr>
        <p:blipFill>
          <a:blip r:embed="rId1"/>
          <a:srcRect l="0" t="13445" r="2158" b="0"/>
          <a:stretch/>
        </p:blipFill>
        <p:spPr>
          <a:xfrm>
            <a:off x="7315200" y="457200"/>
            <a:ext cx="1289160" cy="17524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plus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73" descr="j0411785"/>
          <p:cNvPicPr/>
          <p:nvPr/>
        </p:nvPicPr>
        <p:blipFill>
          <a:blip r:embed="rId1"/>
          <a:stretch/>
        </p:blipFill>
        <p:spPr>
          <a:xfrm>
            <a:off x="7315200" y="1676520"/>
            <a:ext cx="1525680" cy="22860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72" descr="j0415776"/>
          <p:cNvPicPr/>
          <p:nvPr/>
        </p:nvPicPr>
        <p:blipFill>
          <a:blip r:embed="rId2"/>
          <a:stretch/>
        </p:blipFill>
        <p:spPr>
          <a:xfrm>
            <a:off x="380880" y="3144960"/>
            <a:ext cx="1554120" cy="234144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75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Derek’s Scheduled Day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30"/>
          <p:cNvSpPr/>
          <p:nvPr/>
        </p:nvSpPr>
        <p:spPr>
          <a:xfrm>
            <a:off x="6561360" y="762120"/>
            <a:ext cx="27475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Showcard Gothic"/>
              </a:rPr>
              <a:t>ruined</a:t>
            </a:r>
            <a:endParaRPr b="0" lang="en-US" sz="4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3" name="AutoShape 33"/>
          <p:cNvSpPr/>
          <p:nvPr/>
        </p:nvSpPr>
        <p:spPr>
          <a:xfrm>
            <a:off x="2057400" y="4191120"/>
            <a:ext cx="7086600" cy="914400"/>
          </a:xfrm>
          <a:prstGeom prst="wedgeRoundRectCallout">
            <a:avLst>
              <a:gd name="adj1" fmla="val -57662"/>
              <a:gd name="adj2" fmla="val -68231"/>
              <a:gd name="adj3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Unicode MS"/>
              </a:rPr>
              <a:t>Derek, I need your report by 1 pm.  It might cut into your lunch hour, but it’s a top priority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4" name="AutoShape 34"/>
          <p:cNvSpPr/>
          <p:nvPr/>
        </p:nvSpPr>
        <p:spPr>
          <a:xfrm>
            <a:off x="2286000" y="1981080"/>
            <a:ext cx="4876920" cy="1067040"/>
          </a:xfrm>
          <a:prstGeom prst="wedgeRoundRectCallout">
            <a:avLst>
              <a:gd name="adj1" fmla="val 64291"/>
              <a:gd name="adj2" fmla="val 20833"/>
              <a:gd name="adj3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Unicode MS"/>
              </a:rPr>
              <a:t>Derek, I might be late getting home from work.  We might not eat til later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 spd="med" advTm="15000">
    <p:wedge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6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6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36" descr="j0415776"/>
          <p:cNvPicPr/>
          <p:nvPr/>
        </p:nvPicPr>
        <p:blipFill>
          <a:blip r:embed="rId1"/>
          <a:stretch/>
        </p:blipFill>
        <p:spPr>
          <a:xfrm>
            <a:off x="0" y="3886200"/>
            <a:ext cx="1263600" cy="19051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37" descr="P4"/>
          <p:cNvPicPr/>
          <p:nvPr/>
        </p:nvPicPr>
        <p:blipFill>
          <a:blip r:embed="rId2"/>
          <a:srcRect l="26104" t="20118" r="16566" b="40991"/>
          <a:stretch/>
        </p:blipFill>
        <p:spPr>
          <a:xfrm>
            <a:off x="6858000" y="2895480"/>
            <a:ext cx="2048040" cy="213372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Derek’s Scheduled Day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29"/>
          <p:cNvSpPr/>
          <p:nvPr/>
        </p:nvSpPr>
        <p:spPr>
          <a:xfrm>
            <a:off x="6652440" y="795240"/>
            <a:ext cx="25858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Stencil"/>
              </a:rPr>
              <a:t>SAVED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9" name="AutoShape 32"/>
          <p:cNvSpPr/>
          <p:nvPr/>
        </p:nvSpPr>
        <p:spPr>
          <a:xfrm>
            <a:off x="304920" y="2514600"/>
            <a:ext cx="6629400" cy="1295280"/>
          </a:xfrm>
          <a:prstGeom prst="wedgeRoundRectCallout">
            <a:avLst>
              <a:gd name="adj1" fmla="val 56870"/>
              <a:gd name="adj2" fmla="val 21444"/>
              <a:gd name="adj3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Unicode MS"/>
              </a:rPr>
              <a:t>If I have to work through lunch can I leave early?  I have an important class assignment  that I need to work on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0" name="AutoShape 33"/>
          <p:cNvSpPr/>
          <p:nvPr/>
        </p:nvSpPr>
        <p:spPr>
          <a:xfrm>
            <a:off x="1295280" y="4267080"/>
            <a:ext cx="4343400" cy="685800"/>
          </a:xfrm>
          <a:prstGeom prst="wedgeRoundRectCallout">
            <a:avLst>
              <a:gd name="adj1" fmla="val -59319"/>
              <a:gd name="adj2" fmla="val -9953"/>
              <a:gd name="adj3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Unicode MS"/>
              </a:rPr>
              <a:t>That should be alright.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1" name="AutoShape 34"/>
          <p:cNvSpPr/>
          <p:nvPr/>
        </p:nvSpPr>
        <p:spPr>
          <a:xfrm>
            <a:off x="3962520" y="1676520"/>
            <a:ext cx="5181480" cy="533160"/>
          </a:xfrm>
          <a:prstGeom prst="wedgeRoundRectCallout">
            <a:avLst>
              <a:gd name="adj1" fmla="val 19148"/>
              <a:gd name="adj2" fmla="val 200597"/>
              <a:gd name="adj3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Unicode MS"/>
              </a:rPr>
              <a:t>Okay, I’ll plan to be home at 6:00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2" name="AutoShape 35"/>
          <p:cNvSpPr/>
          <p:nvPr/>
        </p:nvSpPr>
        <p:spPr>
          <a:xfrm>
            <a:off x="3733920" y="5105520"/>
            <a:ext cx="3657600" cy="1752480"/>
          </a:xfrm>
          <a:prstGeom prst="cloudCallout">
            <a:avLst>
              <a:gd name="adj1" fmla="val 41449"/>
              <a:gd name="adj2" fmla="val -12753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Unicode MS"/>
              </a:rPr>
              <a:t>If I feel tired at the library, I’ll just take a walk.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 spd="med" advTm="15000">
    <p:pull dir="d"/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828440" y="6858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Derek’s Scheduled Day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838080" y="2514600"/>
          <a:ext cx="7315200" cy="3152880"/>
        </p:xfrm>
        <a:graphic>
          <a:graphicData uri="http://schemas.openxmlformats.org/drawingml/2006/table">
            <a:tbl>
              <a:tblPr/>
              <a:tblGrid>
                <a:gridCol w="1981440"/>
                <a:gridCol w="2133360"/>
                <a:gridCol w="320040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am-4p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4-5:30p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tu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ead World Civ. Boo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:30-6:30p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ad Ho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t Dinn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6:30-8p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ibr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World Civ. Pap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8:30p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 Jasm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30-10p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ish Pap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29"/>
          <p:cNvSpPr/>
          <p:nvPr/>
        </p:nvSpPr>
        <p:spPr>
          <a:xfrm>
            <a:off x="2484720" y="533520"/>
            <a:ext cx="28299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Stencil"/>
              </a:rPr>
              <a:t>revisED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6" name="Text Box 59"/>
          <p:cNvSpPr/>
          <p:nvPr/>
        </p:nvSpPr>
        <p:spPr>
          <a:xfrm>
            <a:off x="3056040" y="1676520"/>
            <a:ext cx="12157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^</a:t>
            </a:r>
            <a:endParaRPr b="0" lang="en-US" sz="4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 spd="med" advTm="15000">
    <p:wipe dir="u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000"/>
                            </p:stCondLst>
                            <p:childTnLst>
                              <p:par>
                                <p:cTn id="8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00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66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3300"/>
                </a:solidFill>
                <a:latin typeface="Arial"/>
              </a:rPr>
              <a:t>3. Revisit and Revise Your Plan</a:t>
            </a:r>
            <a:br>
              <a:rPr sz="35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re you making progres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Now that you’ve been paying attention to your schedule, how are you actually using your tim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Which tasks were you able to do?  What didn’t get don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Was your energy level appropriate?  Your stress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What changes need to be made to your weekly schedule?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What are persistent time wast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Could better communication have helped you stick to your pl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Was procrastination an issue?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WordArt 4"/>
          <p:cNvSpPr txBox="1"/>
          <p:nvPr/>
        </p:nvSpPr>
        <p:spPr>
          <a:xfrm>
            <a:off x="762120" y="5486400"/>
            <a:ext cx="8076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e tough with your time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15000">
    <p:wipe dir="d"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Unicode MS"/>
              </a:rPr>
              <a:t>Procrastination:</a:t>
            </a:r>
            <a:br>
              <a:rPr sz="3400"/>
            </a:br>
            <a:r>
              <a:rPr b="1" lang="en-US" sz="2100" spc="-1" strike="noStrike">
                <a:solidFill>
                  <a:srgbClr val="ff3300"/>
                </a:solidFill>
                <a:latin typeface="Times New Roman"/>
              </a:rPr>
              <a:t>“Never do today what you can put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ff3300"/>
                </a:solidFill>
                <a:latin typeface="Times New Roman"/>
              </a:rPr>
              <a:t>off ‘till tomorrow!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Forms of procrastinat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Ignoring the task, hoping it will go aw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Underestimating how long it will tak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Overestimating your abilities and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Telling yourself that poor performance is ok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Doing something else that isn’t very importa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Believing that repeated “minor” delays won’t hurt yo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Talking about a hard job rather than doing i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Putting all your work on only one part of the tas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Becoming paralyzed when having to make cho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2" name="Picture 4" descr="MCPE01931_0000[1]"/>
          <p:cNvPicPr/>
          <p:nvPr/>
        </p:nvPicPr>
        <p:blipFill>
          <a:blip r:embed="rId1"/>
          <a:stretch/>
        </p:blipFill>
        <p:spPr>
          <a:xfrm>
            <a:off x="6705720" y="228600"/>
            <a:ext cx="2209680" cy="15494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d"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5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skerville Old Face"/>
              </a:rPr>
              <a:t>Myths about Time Managemen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459" name="Picture 5" descr=""/>
          <p:cNvPicPr/>
          <p:nvPr/>
        </p:nvPicPr>
        <p:blipFill>
          <a:blip r:embed="rId1"/>
          <a:stretch/>
        </p:blipFill>
        <p:spPr>
          <a:xfrm>
            <a:off x="0" y="5029200"/>
            <a:ext cx="2790720" cy="182880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7" descr=""/>
          <p:cNvPicPr/>
          <p:nvPr/>
        </p:nvPicPr>
        <p:blipFill>
          <a:blip r:embed="rId2"/>
          <a:stretch/>
        </p:blipFill>
        <p:spPr>
          <a:xfrm>
            <a:off x="0" y="1752480"/>
            <a:ext cx="2287440" cy="18288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8" descr=""/>
          <p:cNvPicPr/>
          <p:nvPr/>
        </p:nvPicPr>
        <p:blipFill>
          <a:blip r:embed="rId3"/>
          <a:stretch/>
        </p:blipFill>
        <p:spPr>
          <a:xfrm>
            <a:off x="7682040" y="1676520"/>
            <a:ext cx="1461960" cy="18288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9" descr=""/>
          <p:cNvPicPr/>
          <p:nvPr/>
        </p:nvPicPr>
        <p:blipFill>
          <a:blip r:embed="rId4"/>
          <a:stretch/>
        </p:blipFill>
        <p:spPr>
          <a:xfrm>
            <a:off x="6754680" y="4114800"/>
            <a:ext cx="2389320" cy="1828800"/>
          </a:xfrm>
          <a:prstGeom prst="rect">
            <a:avLst/>
          </a:prstGeom>
          <a:ln w="0">
            <a:noFill/>
          </a:ln>
        </p:spPr>
      </p:pic>
      <p:sp>
        <p:nvSpPr>
          <p:cNvPr id="463" name="AutoShape 10"/>
          <p:cNvSpPr/>
          <p:nvPr/>
        </p:nvSpPr>
        <p:spPr>
          <a:xfrm>
            <a:off x="2286000" y="1176120"/>
            <a:ext cx="6095880" cy="1089360"/>
          </a:xfrm>
          <a:prstGeom prst="wedgeRoundRectCallout">
            <a:avLst>
              <a:gd name="adj1" fmla="val -52671"/>
              <a:gd name="adj2" fmla="val 36120"/>
              <a:gd name="adj3" fmla="val 16667"/>
            </a:avLst>
          </a:prstGeom>
          <a:solidFill>
            <a:srgbClr val="db114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ime management is nothing but common sense. I do well in school, so I must be managing my time effectively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4" name="AutoShape 11"/>
          <p:cNvSpPr/>
          <p:nvPr/>
        </p:nvSpPr>
        <p:spPr>
          <a:xfrm>
            <a:off x="4572000" y="2259360"/>
            <a:ext cx="2895480" cy="2494800"/>
          </a:xfrm>
          <a:prstGeom prst="cloudCallout">
            <a:avLst>
              <a:gd name="adj1" fmla="val 56787"/>
              <a:gd name="adj2" fmla="val -36282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ime management?  I work better under pressure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5" name="AutoShape 12"/>
          <p:cNvSpPr/>
          <p:nvPr/>
        </p:nvSpPr>
        <p:spPr>
          <a:xfrm>
            <a:off x="3200400" y="5131080"/>
            <a:ext cx="2743200" cy="776880"/>
          </a:xfrm>
          <a:prstGeom prst="wedgeRectCallout">
            <a:avLst>
              <a:gd name="adj1" fmla="val 86685"/>
              <a:gd name="adj2" fmla="val -88856"/>
            </a:avLst>
          </a:prstGeom>
          <a:solidFill>
            <a:srgbClr val="e400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t takes all the fun out of life!!!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6" name="AutoShape 13"/>
          <p:cNvSpPr/>
          <p:nvPr/>
        </p:nvSpPr>
        <p:spPr>
          <a:xfrm>
            <a:off x="2438280" y="2418120"/>
            <a:ext cx="2514600" cy="2494800"/>
          </a:xfrm>
          <a:prstGeom prst="cloudCallout">
            <a:avLst>
              <a:gd name="adj1" fmla="val -74175"/>
              <a:gd name="adj2" fmla="val 69953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No matter what I do, I won’t have enough time!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 spd="med" advTm="15000">
    <p:wipe dir="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Unicode MS"/>
              </a:rPr>
              <a:t>How to Overcome Procrastination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5" descr="02_Time_3"/>
          <p:cNvPicPr/>
          <p:nvPr/>
        </p:nvPicPr>
        <p:blipFill>
          <a:blip r:embed="rId1"/>
          <a:srcRect l="13793" t="12537" r="14483" b="12201"/>
          <a:stretch/>
        </p:blipFill>
        <p:spPr>
          <a:xfrm>
            <a:off x="7162920" y="2133720"/>
            <a:ext cx="1981080" cy="137160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 the mental battle by committing to being on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Set and keep deadli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ize, schedule &amp; pl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Divide a big job into smaller 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d a way to make a game of your work or make it fu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Reward yourself when you’re d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l your friends and room mates to remind you 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orities and deadli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Learn to say “no” to time was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8"/>
          <p:cNvSpPr/>
          <p:nvPr/>
        </p:nvSpPr>
        <p:spPr>
          <a:xfrm>
            <a:off x="7543800" y="3886200"/>
            <a:ext cx="1600200" cy="1600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lots</a:t>
            </a:r>
            <a:endParaRPr b="0" lang="en-US" sz="17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7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ickies</a:t>
            </a:r>
            <a:endParaRPr b="0" lang="en-US" sz="17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 spd="med" advTm="15000">
    <p:wipe dir="l"/>
  </p:transition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10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10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1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1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10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10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10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10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10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10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1000" fill="hold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1000" fill="hold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1000" fill="hold"/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1000" fill="hold"/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1000" fill="hold"/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1000" fill="hold"/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1000" fill="hold"/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506268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33cc"/>
                </a:solidFill>
                <a:latin typeface="Arial Unicode MS"/>
              </a:rPr>
              <a:t>Tackle Time Waster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First, learn to recognize when you’re wasting ti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Decide what you need to do and can realistically 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Learn how to say “NO” when you don’t have ti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Use an answering machine and return calls at your convenience. The telephone is a major time kill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Learn to say “I can’t talk right now. I’ll get back to you.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Wasting time is often linked to a lack of self-discip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Ask yourself, “Do I really need to do this or not?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Picture 10" descr="MCj02817620000[1]"/>
          <p:cNvPicPr/>
          <p:nvPr/>
        </p:nvPicPr>
        <p:blipFill>
          <a:blip r:embed="rId1"/>
          <a:stretch/>
        </p:blipFill>
        <p:spPr>
          <a:xfrm>
            <a:off x="838080" y="4800600"/>
            <a:ext cx="1814760" cy="18050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1" descr="MCj04046150000[1]"/>
          <p:cNvPicPr/>
          <p:nvPr/>
        </p:nvPicPr>
        <p:blipFill>
          <a:blip r:embed="rId2"/>
          <a:stretch/>
        </p:blipFill>
        <p:spPr>
          <a:xfrm>
            <a:off x="0" y="4343400"/>
            <a:ext cx="1303200" cy="25146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3" descr="j0422165"/>
          <p:cNvPicPr/>
          <p:nvPr/>
        </p:nvPicPr>
        <p:blipFill>
          <a:blip r:embed="rId3"/>
          <a:stretch/>
        </p:blipFill>
        <p:spPr>
          <a:xfrm>
            <a:off x="7315200" y="38088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</p:transition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20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20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20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20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20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20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2000" fill="hold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2000" fill="hold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2000" fill="hold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2000" fill="hold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2000" fill="hold"/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2000" fill="hold"/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2000" fill="hold"/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2000" fill="hold"/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merican Typewriter"/>
              </a:rPr>
              <a:t>Learn to say “No!”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oid the temptation to socialize when you’ve scheduled 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friends ask you to join them last minute, decline outright, but ask if you could get together later in the wee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alizing is important when you don’t have other things to worry abou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somewhere you won’t be tempted to chat, watch movies or YouTube, or use social utilities like Faceboo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Picture 9" descr=""/>
          <p:cNvPicPr/>
          <p:nvPr/>
        </p:nvPicPr>
        <p:blipFill>
          <a:blip r:embed="rId1"/>
          <a:stretch/>
        </p:blipFill>
        <p:spPr>
          <a:xfrm>
            <a:off x="6781680" y="3200400"/>
            <a:ext cx="1916280" cy="289548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10"/>
          <p:cNvSpPr/>
          <p:nvPr/>
        </p:nvSpPr>
        <p:spPr>
          <a:xfrm>
            <a:off x="2159640" y="1447920"/>
            <a:ext cx="4969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Don’t let distractions sap your time!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6" name="AutoShape 11"/>
          <p:cNvSpPr/>
          <p:nvPr/>
        </p:nvSpPr>
        <p:spPr>
          <a:xfrm>
            <a:off x="6400800" y="1981080"/>
            <a:ext cx="2286000" cy="990720"/>
          </a:xfrm>
          <a:prstGeom prst="wedgeRoundRectCallout">
            <a:avLst>
              <a:gd name="adj1" fmla="val -16597"/>
              <a:gd name="adj2" fmla="val 94870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Bradley Hand ITC TT-Bold"/>
              </a:rPr>
              <a:t>I have a study group tonight.  Are you free on Thursday?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 spd="med" advTm="15000">
    <p:wipe dir="u"/>
  </p:transition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1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6" dur="8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7" dur="8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8" dur="8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Unicode MS"/>
              </a:rPr>
              <a:t>Revisit Your Valu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5168880" cy="33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Knowing what is most valuable to you gives direction to your lif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Your energy should be oriented first toward things that reflect the values that are most importa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Examine your values to help you make time management decis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9" name="Picture 4" descr="MCj02908470000[1]"/>
          <p:cNvPicPr/>
          <p:nvPr/>
        </p:nvPicPr>
        <p:blipFill>
          <a:blip r:embed="rId1"/>
          <a:stretch/>
        </p:blipFill>
        <p:spPr>
          <a:xfrm>
            <a:off x="6694560" y="1981080"/>
            <a:ext cx="1985760" cy="2865600"/>
          </a:xfrm>
          <a:prstGeom prst="rect">
            <a:avLst/>
          </a:prstGeom>
          <a:ln w="0">
            <a:noFill/>
          </a:ln>
        </p:spPr>
      </p:pic>
      <p:sp>
        <p:nvSpPr>
          <p:cNvPr id="560" name="WordArt 6"/>
          <p:cNvSpPr txBox="1"/>
          <p:nvPr/>
        </p:nvSpPr>
        <p:spPr>
          <a:xfrm>
            <a:off x="762120" y="5715000"/>
            <a:ext cx="7481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Time is a very valuable resource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 advTm="15000">
    <p:pull dir="d"/>
  </p:transition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1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1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10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10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10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10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 Unicode MS"/>
              </a:rPr>
              <a:t>Time Management Technique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62485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ffff66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ffff66"/>
                </a:solidFill>
                <a:latin typeface="Arial Unicode MS"/>
              </a:rPr>
              <a:t>The Set Time Meth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 Unicode MS"/>
              </a:rPr>
              <a:t>Block out a specific time to accomplish a task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Unicode MS"/>
              </a:rPr>
              <a:t>Examples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Monday 1:00—2:00 Work physics probl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aturday 9:00—11:30 Go to the gy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Rectangle 6"/>
          <p:cNvSpPr/>
          <p:nvPr/>
        </p:nvSpPr>
        <p:spPr>
          <a:xfrm>
            <a:off x="2514600" y="3200400"/>
            <a:ext cx="6248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 Unicode MS"/>
              </a:rPr>
              <a:t>The Swiss Cheese Approach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Whenever you find yourself with some free time, do a small part of a larger task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Arrive to class 10 minutes early and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brainstorm research ideas while waiting for your friend to arrive for lunch, review notes from today’s History lecture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564" name="Picture 7" descr="MCj02157750000[1]"/>
          <p:cNvPicPr/>
          <p:nvPr/>
        </p:nvPicPr>
        <p:blipFill>
          <a:blip r:embed="rId1"/>
          <a:stretch/>
        </p:blipFill>
        <p:spPr>
          <a:xfrm>
            <a:off x="1066680" y="4114800"/>
            <a:ext cx="1905120" cy="176688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8" descr="MCj03263080000[1]"/>
          <p:cNvPicPr/>
          <p:nvPr/>
        </p:nvPicPr>
        <p:blipFill>
          <a:blip r:embed="rId2"/>
          <a:stretch/>
        </p:blipFill>
        <p:spPr>
          <a:xfrm>
            <a:off x="7316640" y="1371600"/>
            <a:ext cx="1827360" cy="16574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u"/>
  </p:transition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9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5" dur="50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8" dur="500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0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Unicode MS"/>
              </a:rPr>
              <a:t>REVISE and PREVIEW:</a:t>
            </a:r>
            <a:br>
              <a:rPr sz="3900"/>
            </a:br>
            <a:r>
              <a:rPr b="0" lang="en-US" sz="3900" spc="-1" strike="noStrike">
                <a:solidFill>
                  <a:srgbClr val="ffffff"/>
                </a:solidFill>
                <a:latin typeface="Arial Unicode MS"/>
              </a:rPr>
              <a:t>Staying on top of things…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 Unicode MS"/>
              </a:rPr>
              <a:t>Immediately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 note all chang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Exam/Paper due date revi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Meeting additions/cancell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Work schedul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Upcoming visitors, etc., etc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 Unicode MS"/>
              </a:rPr>
              <a:t>Preview the upcoming week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 making any necessary adjustm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 Unicode MS"/>
              </a:rPr>
              <a:t>Preview each day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 to see what might happen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WordArt 4"/>
          <p:cNvSpPr txBox="1"/>
          <p:nvPr/>
        </p:nvSpPr>
        <p:spPr>
          <a:xfrm rot="20137200">
            <a:off x="2514600" y="5410080"/>
            <a:ext cx="441972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5604000"/>
                </a:gradFill>
                <a:latin typeface="Impact"/>
              </a:rPr>
              <a:t>Be Prepared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5604000"/>
              </a:gradFill>
              <a:latin typeface="Impact"/>
              <a:ea typeface="Impact"/>
            </a:endParaRPr>
          </a:p>
        </p:txBody>
      </p:sp>
      <p:pic>
        <p:nvPicPr>
          <p:cNvPr id="569" name="Picture 5" descr="boss"/>
          <p:cNvPicPr/>
          <p:nvPr/>
        </p:nvPicPr>
        <p:blipFill>
          <a:blip r:embed="rId1"/>
          <a:stretch/>
        </p:blipFill>
        <p:spPr>
          <a:xfrm>
            <a:off x="6705720" y="1828800"/>
            <a:ext cx="1828800" cy="17557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dissolve/>
  </p:transition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10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10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10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10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10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10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10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10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10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10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10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10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10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10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ill Sans"/>
              </a:rPr>
              <a:t>If you commute to school, you can…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Listen to audiotape lectures or podcas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Go over what you learned in class on your way to or from wor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If you carpool with others from your class, use the time to discuss class materia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Exchange phone numbers with other students early in the seme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Create a personal commuter telephone direct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2" name="Picture 9" descr="MCj04059900000[1]"/>
          <p:cNvPicPr/>
          <p:nvPr/>
        </p:nvPicPr>
        <p:blipFill>
          <a:blip r:embed="rId1"/>
          <a:stretch/>
        </p:blipFill>
        <p:spPr>
          <a:xfrm>
            <a:off x="6095880" y="4800600"/>
            <a:ext cx="1795680" cy="182880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1" descr=""/>
          <p:cNvPicPr/>
          <p:nvPr/>
        </p:nvPicPr>
        <p:blipFill>
          <a:blip r:embed="rId2"/>
          <a:stretch/>
        </p:blipFill>
        <p:spPr>
          <a:xfrm>
            <a:off x="1143000" y="5105520"/>
            <a:ext cx="2529000" cy="15476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edge/>
  </p:transition>
  <p:timing>
    <p:tnLst>
      <p:par>
        <p:cTn id="1273" dur="indefinite" restart="never" nodeType="tmRoot">
          <p:childTnLst>
            <p:seq>
              <p:cTn id="1274" dur="indefinite" nodeType="mainSeq">
                <p:childTnLst>
                  <p:par>
                    <p:cTn id="1275" fill="hold">
                      <p:stCondLst>
                        <p:cond delay="0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1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4" dur="5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500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8" dur="500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5" dur="500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2" dur="500"/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cc00"/>
                </a:solidFill>
                <a:latin typeface="Baskerville"/>
              </a:rPr>
              <a:t>Review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 and energy management can make you more productive and reduce your stress lev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Three Ste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Set go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Make a schedu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Revisit and revise your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 tough with your time.  Actively avoid procrastination and time wasters.  Learn to say “no” to distrac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mploy a variety of time management strategies to maximize your tim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lax and enjoy the extra time that you’ve discover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852280" y="339480"/>
            <a:ext cx="56898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1142"/>
                </a:solidFill>
                <a:latin typeface="Cooper Black"/>
              </a:rPr>
              <a:t>The Truth!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468" name="Picture 7" descr="MPj04003770000[1]"/>
          <p:cNvPicPr/>
          <p:nvPr/>
        </p:nvPicPr>
        <p:blipFill>
          <a:blip r:embed="rId1"/>
          <a:stretch/>
        </p:blipFill>
        <p:spPr>
          <a:xfrm>
            <a:off x="0" y="3429000"/>
            <a:ext cx="2205000" cy="3429000"/>
          </a:xfrm>
          <a:prstGeom prst="rect">
            <a:avLst/>
          </a:prstGeom>
          <a:ln w="0">
            <a:noFill/>
          </a:ln>
        </p:spPr>
      </p:pic>
      <p:sp>
        <p:nvSpPr>
          <p:cNvPr id="469" name="AutoShape 8"/>
          <p:cNvSpPr/>
          <p:nvPr/>
        </p:nvSpPr>
        <p:spPr>
          <a:xfrm>
            <a:off x="0" y="2057400"/>
            <a:ext cx="2133720" cy="914400"/>
          </a:xfrm>
          <a:prstGeom prst="wedgeEllipseCallout">
            <a:avLst>
              <a:gd name="adj1" fmla="val -6768"/>
              <a:gd name="adj2" fmla="val 83333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!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0" name="Text Box 9"/>
          <p:cNvSpPr/>
          <p:nvPr/>
        </p:nvSpPr>
        <p:spPr>
          <a:xfrm>
            <a:off x="2228760" y="762120"/>
            <a:ext cx="691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college students, you are very busy people, and to make those 168 hours effective, you have to do some planning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1" name="Text Box 10"/>
          <p:cNvSpPr/>
          <p:nvPr/>
        </p:nvSpPr>
        <p:spPr>
          <a:xfrm>
            <a:off x="2653920" y="1490760"/>
            <a:ext cx="5686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The Benefits of Time Managemen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re more </a:t>
            </a:r>
            <a:r>
              <a:rPr b="0" lang="en-US" sz="2400" spc="-1" strike="noStrike">
                <a:solidFill>
                  <a:srgbClr val="9966ff"/>
                </a:solidFill>
                <a:latin typeface="Arial"/>
              </a:rPr>
              <a:t>produ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reduce your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str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improve your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lf-este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chieve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your life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void </a:t>
            </a:r>
            <a:r>
              <a:rPr b="0" lang="en-US" sz="2400" spc="-1" strike="noStrike">
                <a:solidFill>
                  <a:srgbClr val="9966ff"/>
                </a:solidFill>
                <a:latin typeface="Arial"/>
              </a:rPr>
              <a:t>meltdow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eel more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confi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your ability to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hings done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reach your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o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2" name="Text Box 11"/>
          <p:cNvSpPr/>
          <p:nvPr/>
        </p:nvSpPr>
        <p:spPr>
          <a:xfrm>
            <a:off x="2313360" y="5029200"/>
            <a:ext cx="62128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Kristen ITC"/>
              </a:rPr>
              <a:t>What is Time Management?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y, making the most of your time and energy!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 spd="med" advTm="15000">
    <p:wipe dir="l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A Word about 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ENERG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most overlooked aspect of time management is your energy level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75" name="Picture 9" descr="asleep"/>
          <p:cNvPicPr/>
          <p:nvPr/>
        </p:nvPicPr>
        <p:blipFill>
          <a:blip r:embed="rId1"/>
          <a:stretch/>
        </p:blipFill>
        <p:spPr>
          <a:xfrm>
            <a:off x="7238880" y="4495680"/>
            <a:ext cx="1654200" cy="2210040"/>
          </a:xfrm>
          <a:prstGeom prst="rect">
            <a:avLst/>
          </a:prstGeom>
          <a:ln w="0">
            <a:noFill/>
          </a:ln>
        </p:spPr>
      </p:pic>
      <p:sp>
        <p:nvSpPr>
          <p:cNvPr id="476" name="Text Box 11"/>
          <p:cNvSpPr/>
          <p:nvPr/>
        </p:nvSpPr>
        <p:spPr>
          <a:xfrm>
            <a:off x="443520" y="2525760"/>
            <a:ext cx="7779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aluate your energy level at different times of day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dule tasks when you have the energy level to match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you are a “morning person,” seize the early hou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study and do assignments that require focus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you are an “evening person,” make sure that you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being productive and not sacrificing sleep for extra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urs to socialize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sing sleep is the easiest way to sabotage your energy level!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7" name="Text Box 12"/>
          <p:cNvSpPr/>
          <p:nvPr/>
        </p:nvSpPr>
        <p:spPr>
          <a:xfrm>
            <a:off x="1981080" y="563868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howcard Gothic"/>
              </a:rPr>
              <a:t>Don’t let this be you!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478" name="Picture 13" descr="P12"/>
          <p:cNvPicPr/>
          <p:nvPr/>
        </p:nvPicPr>
        <p:blipFill>
          <a:blip r:embed="rId2"/>
          <a:stretch/>
        </p:blipFill>
        <p:spPr>
          <a:xfrm>
            <a:off x="0" y="5105520"/>
            <a:ext cx="2057400" cy="13413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teps to Managing Your Time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20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t goa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20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ke a 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20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visit and revise your pl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1" name="Picture 4" descr="j0234131"/>
          <p:cNvPicPr/>
          <p:nvPr/>
        </p:nvPicPr>
        <p:blipFill>
          <a:blip r:embed="rId1"/>
          <a:stretch/>
        </p:blipFill>
        <p:spPr>
          <a:xfrm>
            <a:off x="6934320" y="2209680"/>
            <a:ext cx="1620720" cy="17240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u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837720" y="1981080"/>
            <a:ext cx="493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Make your goals specific and concrete.  Don’t be vag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Set both long-term goals and short-term ones to suppor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Set a deadline for your go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Integrate your goals: school, personal and care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Realize that goals change, but know which goals to stick to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3" name="Picture 4" descr="MCj01976550000[1]"/>
          <p:cNvPicPr/>
          <p:nvPr/>
        </p:nvPicPr>
        <p:blipFill>
          <a:blip r:embed="rId1"/>
          <a:stretch/>
        </p:blipFill>
        <p:spPr>
          <a:xfrm>
            <a:off x="5791320" y="2057400"/>
            <a:ext cx="2754360" cy="2022480"/>
          </a:xfrm>
          <a:prstGeom prst="rect">
            <a:avLst/>
          </a:prstGeom>
          <a:ln w="0">
            <a:noFill/>
          </a:ln>
        </p:spPr>
      </p:pic>
      <p:sp>
        <p:nvSpPr>
          <p:cNvPr id="484" name="AutoShape 6"/>
          <p:cNvSpPr/>
          <p:nvPr/>
        </p:nvSpPr>
        <p:spPr>
          <a:xfrm>
            <a:off x="7086600" y="228600"/>
            <a:ext cx="1752480" cy="1523880"/>
          </a:xfrm>
          <a:prstGeom prst="cloudCallout">
            <a:avLst>
              <a:gd name="adj1" fmla="val -27717"/>
              <a:gd name="adj2" fmla="val 75208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for the goal!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1523520" y="380880"/>
            <a:ext cx="3581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Where to start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8"/>
          <p:cNvSpPr/>
          <p:nvPr/>
        </p:nvSpPr>
        <p:spPr>
          <a:xfrm>
            <a:off x="2440440" y="1219320"/>
            <a:ext cx="29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1. Set Goals!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 spd="med" advTm="15000">
    <p:pull dir="d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2" dur="2000" fill="hold"/>
                                        <p:tgtEl>
                                          <p:spTgt spid="4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3352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t Goals!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continued</a:t>
            </a:r>
            <a:br>
              <a:rPr sz="35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’s important and what isn’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order do things need to be done i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ce you know what your priorities are, you need to plan out a schedule for the semester, the week and the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ning may seem hard at first, but the more you do it, the easier and more natural it ge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WordArt 4"/>
          <p:cNvSpPr txBox="1"/>
          <p:nvPr/>
        </p:nvSpPr>
        <p:spPr>
          <a:xfrm>
            <a:off x="7391520" y="1523880"/>
            <a:ext cx="685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0" name="WordArt 5"/>
          <p:cNvSpPr txBox="1"/>
          <p:nvPr/>
        </p:nvSpPr>
        <p:spPr>
          <a:xfrm>
            <a:off x="7315200" y="3048120"/>
            <a:ext cx="7621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1" name="WordArt 6"/>
          <p:cNvSpPr txBox="1"/>
          <p:nvPr/>
        </p:nvSpPr>
        <p:spPr>
          <a:xfrm>
            <a:off x="7391520" y="4648320"/>
            <a:ext cx="957240" cy="15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3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2" name="Text Box 7"/>
          <p:cNvSpPr/>
          <p:nvPr/>
        </p:nvSpPr>
        <p:spPr>
          <a:xfrm>
            <a:off x="1676520" y="9907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rom your goals, set priorities.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493" name="Picture 8" descr="plan_ahead"/>
          <p:cNvPicPr/>
          <p:nvPr/>
        </p:nvPicPr>
        <p:blipFill>
          <a:blip r:embed="rId1"/>
          <a:stretch/>
        </p:blipFill>
        <p:spPr>
          <a:xfrm>
            <a:off x="2209680" y="5181480"/>
            <a:ext cx="4419720" cy="10890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dissolv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500"/>
                            </p:stCondLst>
                            <p:childTnLst>
                              <p:par>
                                <p:cTn id="4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00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66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3300"/>
                </a:solidFill>
                <a:latin typeface="Arial"/>
              </a:rPr>
              <a:t>2. Make a Schedule</a:t>
            </a:r>
            <a:br>
              <a:rPr sz="3500"/>
            </a:b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Set Up Your Semester Calend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Look at the syllabus for the class schedu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Begin with blocking all </a:t>
            </a:r>
            <a:r>
              <a:rPr b="0" i="1" lang="en-US" sz="2400" spc="-1" strike="noStrike">
                <a:solidFill>
                  <a:srgbClr val="ffffff"/>
                </a:solidFill>
                <a:latin typeface="Arial Unicode MS"/>
              </a:rPr>
              <a:t>class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and </a:t>
            </a:r>
            <a:r>
              <a:rPr b="0" i="1" lang="en-US" sz="2400" spc="-1" strike="noStrike">
                <a:solidFill>
                  <a:srgbClr val="ffffff"/>
                </a:solidFill>
                <a:latin typeface="Arial Unicode MS"/>
              </a:rPr>
              <a:t>lab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tim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Block all other set time obliga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Unicode MS"/>
              </a:rPr>
              <a:t>Work, church, meetings and so on…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Highlight all </a:t>
            </a:r>
            <a:r>
              <a:rPr b="0" i="1" lang="en-US" sz="2400" spc="-1" strike="noStrike">
                <a:solidFill>
                  <a:srgbClr val="ffffff"/>
                </a:solidFill>
                <a:latin typeface="Arial Unicode MS"/>
              </a:rPr>
              <a:t>exams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and project </a:t>
            </a:r>
            <a:r>
              <a:rPr b="0" i="1" lang="en-US" sz="2400" spc="-1" strike="noStrike">
                <a:solidFill>
                  <a:srgbClr val="ffffff"/>
                </a:solidFill>
                <a:latin typeface="Arial Unicode MS"/>
              </a:rPr>
              <a:t>due da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Identify routine homework day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Work backwards from exams and papers and map out study/writing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Don’t forget to take a break once in a whi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WordArt 4"/>
          <p:cNvSpPr txBox="1"/>
          <p:nvPr/>
        </p:nvSpPr>
        <p:spPr>
          <a:xfrm>
            <a:off x="685800" y="5715000"/>
            <a:ext cx="8077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ll work and no play will drive you nuts!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15000">
    <p:strips dir="ld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ake a Schedule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continued</a:t>
            </a:r>
            <a:br>
              <a:rPr sz="2400"/>
            </a:br>
            <a:r>
              <a:rPr b="0" lang="en-US" sz="3400" spc="-1" strike="noStrike">
                <a:solidFill>
                  <a:srgbClr val="ffffff"/>
                </a:solidFill>
                <a:latin typeface="Arial Unicode MS"/>
              </a:rPr>
              <a:t>Set Up Your Weekly Pla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6726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Spend 30 minutes or so mapping out the wee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Ask yourself these questions about the week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 Unicode MS"/>
              </a:rPr>
              <a:t>What do I expect to accomplish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 Unicode MS"/>
              </a:rPr>
              <a:t>What will I have to do to reach these goals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 Unicode MS"/>
              </a:rPr>
              <a:t>What tasks are more important than others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 Unicode MS"/>
              </a:rPr>
              <a:t>How much time will each activity take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 Unicode MS"/>
              </a:rPr>
              <a:t>When will I do each activity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 Unicode MS"/>
              </a:rPr>
              <a:t>How flexible do I have to be to allow for unexpected things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4" descr="MCBD19983_0000[1]"/>
          <p:cNvPicPr/>
          <p:nvPr/>
        </p:nvPicPr>
        <p:blipFill>
          <a:blip r:embed="rId1"/>
          <a:stretch/>
        </p:blipFill>
        <p:spPr>
          <a:xfrm>
            <a:off x="7315200" y="2743200"/>
            <a:ext cx="1600200" cy="2057400"/>
          </a:xfrm>
          <a:prstGeom prst="rect">
            <a:avLst/>
          </a:prstGeom>
          <a:ln w="0">
            <a:noFill/>
          </a:ln>
        </p:spPr>
      </p:pic>
      <p:sp>
        <p:nvSpPr>
          <p:cNvPr id="500" name="WordArt 5"/>
          <p:cNvSpPr txBox="1"/>
          <p:nvPr/>
        </p:nvSpPr>
        <p:spPr>
          <a:xfrm>
            <a:off x="685800" y="5486400"/>
            <a:ext cx="7696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emember to Expect the Unexpected...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1" name="AutoShape 6"/>
          <p:cNvSpPr/>
          <p:nvPr/>
        </p:nvSpPr>
        <p:spPr>
          <a:xfrm>
            <a:off x="7391520" y="1447920"/>
            <a:ext cx="1447560" cy="1218960"/>
          </a:xfrm>
          <a:prstGeom prst="wedgeRectCallout">
            <a:avLst>
              <a:gd name="adj1" fmla="val -12939"/>
              <a:gd name="adj2" fmla="val 85546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does the time go?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 spd="med" advTm="15000">
    <p:strips dir="lu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10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10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10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10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10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10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1000" fill="hold"/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1000" fill="hold"/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1000" fill="hold"/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5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000"/>
                            </p:stCondLst>
                            <p:childTnLst>
                              <p:par>
                                <p:cTn id="5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22:14:49Z</dcterms:created>
  <dc:creator/>
  <dc:description/>
  <dc:language>en-US</dc:language>
  <cp:lastModifiedBy>Bright</cp:lastModifiedBy>
  <dcterms:modified xsi:type="dcterms:W3CDTF">2013-08-23T09:58:06Z</dcterms:modified>
  <cp:revision>96</cp:revision>
  <dc:subject/>
  <dc:title>Chapter 4 Powerpoint- Time Manage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isplay In Nav">
    <vt:lpwstr>1</vt:lpwstr>
  </property>
  <property fmtid="{D5CDD505-2E9C-101B-9397-08002B2CF9AE}" pid="3" name="Page Display Order">
    <vt:lpwstr>1</vt:lpwstr>
  </property>
  <property fmtid="{D5CDD505-2E9C-101B-9397-08002B2CF9AE}" pid="4" name="_dlc_DocId">
    <vt:lpwstr>P5HZTAUAE3PW-160-14</vt:lpwstr>
  </property>
  <property fmtid="{D5CDD505-2E9C-101B-9397-08002B2CF9AE}" pid="5" name="_dlc_DocIdItemGuid">
    <vt:lpwstr>662830d8-1370-4434-a6e9-632a78f886bc</vt:lpwstr>
  </property>
  <property fmtid="{D5CDD505-2E9C-101B-9397-08002B2CF9AE}" pid="6" name="_dlc_DocIdUrl">
    <vt:lpwstr>http://sp.lscc.edu/faculty/amanda_a_frye/_layouts/DocIdRedir.aspx?ID=P5HZTAUAE3PW-160-14, P5HZTAUAE3PW-160-14</vt:lpwstr>
  </property>
</Properties>
</file>